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2C987-87C8-4B6A-A358-CF9F89561EE0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7952C-3DE8-42B1-8820-AA99D1CB89C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39DAA-C867-4D08-8ED8-ADDEE16EEF3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CE060-DF9B-4202-9A85-44681BC37C4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9456A-2F4C-40CA-80B3-7B8A8E9E1FC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52211-C4B2-41A5-BAC5-B90FE81FAB20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1BC65-8668-493E-A9A7-A2A44CE54BE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4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DBAB0-0F87-4807-83B6-2C319E83523E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5A7A2-20AA-4C1D-A9EE-6A20193E47D8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382D4-683C-42CF-A3C9-E77FEF41D72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EACEE-369C-4948-A817-E672F1F95D3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6FF9A-BF2D-4DD1-96FB-CE6559D9220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B16DF-6E76-47AF-87D9-260C3005BB5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6EC02-8BEB-43B5-92E6-5379A2DD01A6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2990D-F069-4961-B865-6805695B644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D8215-001A-4620-914C-B9FD47B00BBA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AACB8-D024-425B-82F0-7477E3669E8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EB33E-E6C4-4132-ACBA-DD612DC74CC0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E414B-108A-41A0-95C3-3DB900EB3456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4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D822B-A703-4A63-8823-1126BB884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053960"/>
            <a:ext cx="90615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E095A-98D0-4FF9-8677-D7C25D046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05396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6200" y="405396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E8273-3223-4399-9A2C-B3198C2D0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05396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6520" y="405396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0480" y="405396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6A04-6DCD-471F-B65F-0F049E0559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45B42-328D-4C40-8831-F64D421B36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67CDE-DCBE-4A70-9F64-3042624A4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DD164-8385-417C-A5B0-12B24BF73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02CA9-A370-461C-A734-C375391EB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F2D33-F1EA-42A3-AB7C-67D84DF3DD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05396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DB160-3580-4379-A8EA-2DDF275428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6200" y="405396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1841D-DBFE-4083-A5E2-958C6F52A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053960"/>
            <a:ext cx="90615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D4371-6C63-40DA-8105-312D5D61B0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1205CD-D47A-472A-9877-349112A00E9A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5575320" y="0"/>
            <a:ext cx="4503600" cy="750960"/>
          </a:xfrm>
          <a:prstGeom prst="rect">
            <a:avLst/>
          </a:prstGeom>
          <a:ln w="0">
            <a:noFill/>
          </a:ln>
        </p:spPr>
      </p:pic>
      <p:sp>
        <p:nvSpPr>
          <p:cNvPr id="6" name="Line 7"/>
          <p:cNvSpPr/>
          <p:nvPr/>
        </p:nvSpPr>
        <p:spPr>
          <a:xfrm flipH="1">
            <a:off x="-9360" y="750960"/>
            <a:ext cx="10099440" cy="1440"/>
          </a:xfrm>
          <a:prstGeom prst="line">
            <a:avLst/>
          </a:prstGeom>
          <a:ln cap="sq" w="28800">
            <a:solidFill>
              <a:srgbClr val="579d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0" y="0"/>
            <a:ext cx="1008072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-11160" y="1708200"/>
            <a:ext cx="1009188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5520" bIns="45000" anchor="t">
            <a:noAutofit/>
          </a:bodyPr>
          <a:p>
            <a:pPr algn="ctr">
              <a:lnSpc>
                <a:spcPct val="1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Ged  –  NTE-Reg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ema 22-  A arte de estudar e apr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o letivo: 20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579760" y="0"/>
            <a:ext cx="4548240" cy="144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2160720" y="3743280"/>
            <a:ext cx="547200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50328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0" y="1779480"/>
            <a:ext cx="100918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5520" bIns="45000" anchor="t">
            <a:noAutofit/>
          </a:bodyPr>
          <a:p>
            <a:pPr algn="ctr">
              <a:lnSpc>
                <a:spcPct val="1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Grupo 1 – Não se aprende sem estu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d:\Meus documentos\Minhas imagens\GED\estudar-para-prova.jpg"/>
          <p:cNvPicPr/>
          <p:nvPr/>
        </p:nvPicPr>
        <p:blipFill>
          <a:blip r:embed="rId1"/>
          <a:stretch/>
        </p:blipFill>
        <p:spPr>
          <a:xfrm>
            <a:off x="2968560" y="2701800"/>
            <a:ext cx="4429080" cy="37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682560" y="1255680"/>
            <a:ext cx="8253360" cy="45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552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3" descr="d:\Meus documentos\Minhas imagens\GED\motivacao-forca-de-vendas-1024x1024.jpg"/>
          <p:cNvPicPr/>
          <p:nvPr/>
        </p:nvPicPr>
        <p:blipFill>
          <a:blip r:embed="rId1"/>
          <a:stretch/>
        </p:blipFill>
        <p:spPr>
          <a:xfrm>
            <a:off x="2754360" y="3851280"/>
            <a:ext cx="5786280" cy="3000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682560" y="1279440"/>
            <a:ext cx="871560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5520" bIns="45000" anchor="t">
            <a:noAutofit/>
          </a:bodyPr>
          <a:p>
            <a:pPr>
              <a:lnSpc>
                <a:spcPct val="141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studar depende de motivaçã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1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studo é trabalho, dedicação, esforço, renú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1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825480" y="1255680"/>
            <a:ext cx="745344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552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539640" y="851040"/>
            <a:ext cx="8501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5520" bIns="45000" anchor="t">
            <a:noAutofit/>
          </a:bodyPr>
          <a:p>
            <a:pPr>
              <a:lnSpc>
                <a:spcPct val="141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Na escola e na universidade, estudar é o qu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nos se faz gastando-se o temp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teiro com aulas e prov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06.01.2012_Site_Dentro_Alunos em Sala de Aula- Créd Ademar Filho"/>
          <p:cNvPicPr/>
          <p:nvPr/>
        </p:nvPicPr>
        <p:blipFill>
          <a:blip r:embed="rId1"/>
          <a:stretch/>
        </p:blipFill>
        <p:spPr>
          <a:xfrm>
            <a:off x="1611360" y="3494160"/>
            <a:ext cx="67150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2100240" y="1255680"/>
            <a:ext cx="18108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552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682560" y="922320"/>
            <a:ext cx="850104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5520" bIns="45000" anchor="t">
            <a:noAutofit/>
          </a:bodyPr>
          <a:p>
            <a:pPr>
              <a:lnSpc>
                <a:spcPct val="141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scola integral: estudar não é o sent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entral, mas ter au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6" descr="http://www.odiariodaregiao.com/wp-content/uploads/2011/11/tempo-integral.jpg"/>
          <p:cNvPicPr/>
          <p:nvPr/>
        </p:nvPicPr>
        <p:blipFill>
          <a:blip r:embed="rId1"/>
          <a:stretch/>
        </p:blipFill>
        <p:spPr>
          <a:xfrm>
            <a:off x="2754360" y="3279600"/>
            <a:ext cx="407196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25440" y="779400"/>
            <a:ext cx="950112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5520" bIns="45000" anchor="t">
            <a:noAutofit/>
          </a:bodyPr>
          <a:p>
            <a:pPr>
              <a:lnSpc>
                <a:spcPct val="1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-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396720" y="922320"/>
            <a:ext cx="942984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5520" bIns="45000" anchor="t">
            <a:noAutofit/>
          </a:bodyPr>
          <a:p>
            <a:pPr>
              <a:lnSpc>
                <a:spcPct val="141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ula é procedimento auxiliar da aprendizag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Não leva necessariamente à aprendizag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rucial é aumentar o estudo. Não as aul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5" descr="http://www.blogizazilli.com/wp-content/uploads/2012/05/web451.jpg"/>
          <p:cNvPicPr/>
          <p:nvPr/>
        </p:nvPicPr>
        <p:blipFill>
          <a:blip r:embed="rId1"/>
          <a:stretch/>
        </p:blipFill>
        <p:spPr>
          <a:xfrm>
            <a:off x="968400" y="3208320"/>
            <a:ext cx="7620120" cy="385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7T11:54:33Z</dcterms:created>
  <dc:creator/>
  <dc:description/>
  <cp:keywords/>
  <dc:language>en-US</dc:language>
  <cp:lastModifiedBy>Proprietario</cp:lastModifiedBy>
  <dcterms:modified xsi:type="dcterms:W3CDTF">2015-03-27T01:11:38Z</dcterms:modified>
  <cp:revision>20</cp:revision>
  <dc:subject/>
  <dc:title>Slide 1</dc:title>
</cp:coreProperties>
</file>